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704-90C3-4C93-8615-25BF47F4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9A4-2604-434E-994D-4F73C72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778-7963-44CD-9CEB-AE7BDE5E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AA5-2E38-4E59-A089-0A70CF77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1B0-064D-45E2-BBFD-8E87518E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C18-02D4-4AD7-A3E2-ECD07F2C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9F9-6411-47D7-B13A-A2805FE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CC5-1400-4CED-8A17-B604609D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3E-634D-4F00-91B7-BE4F9A3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32E-8234-487F-A139-5470422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F19-E311-483C-93EC-25AB3FA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FE9-2BF6-4F98-B5FF-82F56D9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AABE-BA7E-42D8-9F5E-96601CF57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48920" y="2819520"/>
            <a:ext cx="129528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16600" y="617220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7760" y="30492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objec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5146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y changing the circle and background to more contrasting colours such as black and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s escape to q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23:10:28Z</dcterms:created>
  <dc:creator>Ian Bean</dc:creator>
  <dc:description/>
  <dc:language>en-US</dc:language>
  <cp:lastModifiedBy>Ian Bean</cp:lastModifiedBy>
  <dcterms:modified xsi:type="dcterms:W3CDTF">2000-12-29T23:18:42Z</dcterms:modified>
  <cp:revision>1</cp:revision>
  <dc:subject/>
  <dc:title>No Slide Title</dc:title>
</cp:coreProperties>
</file>